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AC0-80FB-4D96-BEAD-FEB7E892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97E-FFE6-489C-AAD5-07997A35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F8E-412B-4769-BFCC-EBC06DB6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534-12E4-4839-B8FC-D45806AC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8EB-4996-4474-8B8B-9245F29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47F-69F4-48C3-A842-7441B003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90E-A743-4234-B586-C6BDBA63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758-3F73-4B4D-9B75-DF73E30D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B74-0652-4A23-8090-8DA3E3C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54E-553F-49AC-BF20-A6472A11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447-48EA-49E1-8832-2DDA6D1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98D-7A4A-4830-82B5-BA27934C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8CC1-BBDA-441F-BA0D-02A40D3AA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   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lase 7 IL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13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: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Recuerdas lo que aprendimos el año pas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0481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8672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114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2835360" cy="3648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19076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00400" y="4343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48120" y="502920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334120"/>
            <a:ext cx="38124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477120" y="52574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6248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7960" y="59436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5943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324480" y="6172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705720" y="4038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636480"/>
            <a:ext cx="2667240" cy="121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91120" y="3581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8153280" y="3352680"/>
            <a:ext cx="7632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24440" cy="222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429000" y="484200"/>
            <a:ext cx="2705040" cy="183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895480" y="373392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2733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why; conjugate the ver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en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038480"/>
            <a:ext cx="167652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nz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61200" y="4449600"/>
            <a:ext cx="165600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nz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55080" y="4876920"/>
            <a:ext cx="1790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z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3080" y="3962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enz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2360" y="44197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enz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60080" y="4876920"/>
            <a:ext cx="161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584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79680" y="4876920"/>
            <a:ext cx="1890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53341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3341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3581280"/>
            <a:ext cx="38098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480" y="62485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AGAI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1240" y="1905120"/>
            <a:ext cx="1280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7800" y="2362320"/>
            <a:ext cx="12625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7440" y="2819520"/>
            <a:ext cx="1264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3280" y="19051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2920" y="2362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1360" y="2743200"/>
            <a:ext cx="1279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8680" y="2819520"/>
            <a:ext cx="13647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32767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32767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4240" y="4114800"/>
            <a:ext cx="133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6400" y="4572000"/>
            <a:ext cx="1314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4600" y="5029200"/>
            <a:ext cx="1316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5920" y="4114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5200" y="4572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8040" y="4952880"/>
            <a:ext cx="1245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21320" y="5029200"/>
            <a:ext cx="1331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394240"/>
            <a:ext cx="2667240" cy="1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41008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914400"/>
          <a:ext cx="6933960" cy="2590920"/>
        </p:xfrm>
        <a:graphic>
          <a:graphicData uri="http://schemas.openxmlformats.org/drawingml/2006/table">
            <a:tbl>
              <a:tblPr/>
              <a:tblGrid>
                <a:gridCol w="1206000"/>
                <a:gridCol w="1809000"/>
                <a:gridCol w="206460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t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676520" y="3809880"/>
          <a:ext cx="670500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6720"/>
                <a:gridCol w="181980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ractica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ia y respo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o _____________________ (cerrar) la 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ú _______________________ (perder) tus ll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¿_________________________(preferir) usted la lango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Yo ___________ (mover) los libros de la m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sotros _____________________ (entender) los ejercic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lla ____________ (volver) a la casa a las si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Felipe y Juan ___________________(empezar) las prácticas de gra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¿Ustedes ____________ (poder) estudi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¡Tú ___________ (jugar) mucho xbox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4:04:01Z</dcterms:created>
  <dc:creator>Helen Zumaeta</dc:creator>
  <dc:description/>
  <dc:language>en-US</dc:language>
  <cp:lastModifiedBy>Helen Zumaeta</cp:lastModifiedBy>
  <dcterms:modified xsi:type="dcterms:W3CDTF">2012-09-13T15:19:26Z</dcterms:modified>
  <cp:revision>12</cp:revision>
  <dc:subject/>
  <dc:title>Me llamo _______      Clase 7IM La fecha es el 6 de enero del 2011</dc:title>
</cp:coreProperties>
</file>